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4" name="PlaceHolder 1"/>
          <p:cNvSpPr>
            <a:spLocks noGrp="1"/>
          </p:cNvSpPr>
          <p:nvPr>
            <p:ph type="hdr"/>
          </p:nvPr>
        </p:nvSpPr>
        <p:spPr>
          <a:xfrm>
            <a:off x="-360" y="-360"/>
            <a:ext cx="42750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5" name="PlaceHolder 2"/>
          <p:cNvSpPr>
            <a:spLocks noGrp="1"/>
          </p:cNvSpPr>
          <p:nvPr>
            <p:ph type="dt" idx="123"/>
          </p:nvPr>
        </p:nvSpPr>
        <p:spPr>
          <a:xfrm>
            <a:off x="558792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6" name="PlaceHolder 3"/>
          <p:cNvSpPr>
            <a:spLocks noGrp="1"/>
          </p:cNvSpPr>
          <p:nvPr>
            <p:ph type="sldImg"/>
          </p:nvPr>
        </p:nvSpPr>
        <p:spPr>
          <a:xfrm>
            <a:off x="3249360" y="504720"/>
            <a:ext cx="3367080" cy="2525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67" name="PlaceHolder 4"/>
          <p:cNvSpPr>
            <a:spLocks noGrp="1"/>
          </p:cNvSpPr>
          <p:nvPr>
            <p:ph type="body"/>
          </p:nvPr>
        </p:nvSpPr>
        <p:spPr>
          <a:xfrm>
            <a:off x="987120" y="3198960"/>
            <a:ext cx="789300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68" name="PlaceHolder 5"/>
          <p:cNvSpPr>
            <a:spLocks noGrp="1"/>
          </p:cNvSpPr>
          <p:nvPr>
            <p:ph type="ftr" idx="124"/>
          </p:nvPr>
        </p:nvSpPr>
        <p:spPr>
          <a:xfrm>
            <a:off x="-360" y="6397200"/>
            <a:ext cx="42750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69" name="PlaceHolder 6"/>
          <p:cNvSpPr>
            <a:spLocks noGrp="1"/>
          </p:cNvSpPr>
          <p:nvPr>
            <p:ph type="sldNum" idx="125"/>
          </p:nvPr>
        </p:nvSpPr>
        <p:spPr>
          <a:xfrm>
            <a:off x="5587920" y="6397200"/>
            <a:ext cx="4276800" cy="336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C441-7C25-416B-A92E-E93898736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3249720" y="504720"/>
            <a:ext cx="3367080" cy="2525760"/>
          </a:xfrm>
          <a:prstGeom prst="rect">
            <a:avLst/>
          </a:prstGeom>
          <a:ln w="0">
            <a:noFill/>
          </a:ln>
        </p:spPr>
      </p:sp>
      <p:sp>
        <p:nvSpPr>
          <p:cNvPr id="2021"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669B-CB9A-4987-8EA9-5BEAE1EE4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3249720" y="504720"/>
            <a:ext cx="3367080" cy="2525760"/>
          </a:xfrm>
          <a:prstGeom prst="rect">
            <a:avLst/>
          </a:prstGeom>
          <a:ln w="0">
            <a:noFill/>
          </a:ln>
        </p:spPr>
      </p:sp>
      <p:sp>
        <p:nvSpPr>
          <p:cNvPr id="204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rant for an argument from example can be stated as follows: “What is true in the examples provided is (or will be) true in general or in other instances?”</a:t>
            </a:r>
            <a:endParaRPr b="0" lang="en-US" sz="1200" spc="-1" strike="noStrike">
              <a:solidFill>
                <a:srgbClr val="000000"/>
              </a:solidFill>
              <a:latin typeface="Arial"/>
            </a:endParaRPr>
          </a:p>
        </p:txBody>
      </p:sp>
      <p:sp>
        <p:nvSpPr>
          <p:cNvPr id="2049"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4ECA-0B42-4D06-BE1C-8CD6CCB0E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3249720" y="504720"/>
            <a:ext cx="3367080" cy="2525760"/>
          </a:xfrm>
          <a:prstGeom prst="rect">
            <a:avLst/>
          </a:prstGeom>
          <a:ln w="0">
            <a:noFill/>
          </a:ln>
        </p:spPr>
      </p:sp>
      <p:sp>
        <p:nvSpPr>
          <p:cNvPr id="205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tatement of a warrant for an argument from analogy can be stated as follows: “What is true for situation A will also be true in situation B, which is similar to situation A.” or “What is true for situation A will be true in all similar situations.”</a:t>
            </a:r>
            <a:endParaRPr b="0" lang="en-US" sz="1200" spc="-1" strike="noStrike">
              <a:solidFill>
                <a:srgbClr val="000000"/>
              </a:solidFill>
              <a:latin typeface="Arial"/>
            </a:endParaRPr>
          </a:p>
        </p:txBody>
      </p:sp>
      <p:sp>
        <p:nvSpPr>
          <p:cNvPr id="205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0D69-5161-46A1-ACD3-25D87AA35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3249720" y="504720"/>
            <a:ext cx="3367080" cy="2525760"/>
          </a:xfrm>
          <a:prstGeom prst="rect">
            <a:avLst/>
          </a:prstGeom>
          <a:ln w="0">
            <a:noFill/>
          </a:ln>
        </p:spPr>
      </p:sp>
      <p:sp>
        <p:nvSpPr>
          <p:cNvPr id="2054"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warrant for arguments from causation can be stated as follows: “If an event comes before another event and is associated with that event, then we can say that it is the cause of the event.” or “If A, which is known to bring about B, has been observed, then we can expect B to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5"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981D-8189-4A7C-8ED5-4579D6A42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3249720" y="504720"/>
            <a:ext cx="3367080" cy="2525760"/>
          </a:xfrm>
          <a:prstGeom prst="rect">
            <a:avLst/>
          </a:prstGeom>
          <a:ln w="0">
            <a:noFill/>
          </a:ln>
        </p:spPr>
      </p:sp>
      <p:sp>
        <p:nvSpPr>
          <p:cNvPr id="2057"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hasty</a:t>
            </a:r>
            <a:r>
              <a:rPr b="0" lang="en-US" sz="1200" spc="-1" strike="noStrike">
                <a:solidFill>
                  <a:srgbClr val="000000"/>
                </a:solidFill>
                <a:latin typeface="Arial"/>
              </a:rPr>
              <a:t> </a:t>
            </a:r>
            <a:r>
              <a:rPr b="0" i="1" lang="en-US" sz="1200" spc="-1" strike="noStrike">
                <a:solidFill>
                  <a:srgbClr val="000000"/>
                </a:solidFill>
                <a:latin typeface="Arial"/>
              </a:rPr>
              <a:t>generalization</a:t>
            </a:r>
            <a:r>
              <a:rPr b="0" lang="en-US" sz="1200" spc="-1" strike="noStrike">
                <a:solidFill>
                  <a:srgbClr val="000000"/>
                </a:solidFill>
                <a:latin typeface="Arial"/>
              </a:rPr>
              <a:t> is a fallacy that presents a generalization that is either not supported with evidence or is supported with only one weak exampl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false</a:t>
            </a:r>
            <a:r>
              <a:rPr b="0" lang="en-US" sz="1200" spc="-1" strike="noStrike">
                <a:solidFill>
                  <a:srgbClr val="000000"/>
                </a:solidFill>
                <a:latin typeface="Arial"/>
              </a:rPr>
              <a:t> </a:t>
            </a:r>
            <a:r>
              <a:rPr b="0" i="1" lang="en-US" sz="1200" spc="-1" strike="noStrike">
                <a:solidFill>
                  <a:srgbClr val="000000"/>
                </a:solidFill>
                <a:latin typeface="Arial"/>
              </a:rPr>
              <a:t>cause</a:t>
            </a:r>
            <a:r>
              <a:rPr b="0" lang="en-US" sz="1200" spc="-1" strike="noStrike">
                <a:solidFill>
                  <a:srgbClr val="000000"/>
                </a:solidFill>
                <a:latin typeface="Arial"/>
              </a:rPr>
              <a:t> fallacy occurs when the alleged cause fails to be related to, or to produce, the effec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i="1" lang="en-US" sz="1200" spc="-1" strike="noStrike">
                <a:solidFill>
                  <a:srgbClr val="000000"/>
                </a:solidFill>
                <a:latin typeface="Arial"/>
              </a:rPr>
              <a:t>either-or</a:t>
            </a:r>
            <a:r>
              <a:rPr b="0" lang="en-US" sz="1200" spc="-1" strike="noStrike">
                <a:solidFill>
                  <a:srgbClr val="000000"/>
                </a:solidFill>
                <a:latin typeface="Arial"/>
              </a:rPr>
              <a:t> fallacy is the argument that there are only two alternatives when, in fact, others exis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straw</a:t>
            </a:r>
            <a:r>
              <a:rPr b="0" lang="en-US" sz="1200" spc="-1" strike="noStrike">
                <a:solidFill>
                  <a:srgbClr val="000000"/>
                </a:solidFill>
                <a:latin typeface="Arial"/>
              </a:rPr>
              <a:t> </a:t>
            </a:r>
            <a:r>
              <a:rPr b="0" i="1" lang="en-US" sz="1200" spc="-1" strike="noStrike">
                <a:solidFill>
                  <a:srgbClr val="000000"/>
                </a:solidFill>
                <a:latin typeface="Arial"/>
              </a:rPr>
              <a:t>man</a:t>
            </a:r>
            <a:r>
              <a:rPr b="0" lang="en-US" sz="1200" spc="-1" strike="noStrike">
                <a:solidFill>
                  <a:srgbClr val="000000"/>
                </a:solidFill>
                <a:latin typeface="Arial"/>
              </a:rPr>
              <a:t> fallacy is when a speaker weakens the opposing position by misrepresenting it in some way and then attacks that weaker (straw man) position.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i="1" lang="en-US" sz="1200" spc="-1" strike="noStrike">
                <a:solidFill>
                  <a:srgbClr val="000000"/>
                </a:solidFill>
                <a:latin typeface="Arial"/>
              </a:rPr>
              <a:t>ad</a:t>
            </a:r>
            <a:r>
              <a:rPr b="0" lang="en-US" sz="1200" spc="-1" strike="noStrike">
                <a:solidFill>
                  <a:srgbClr val="000000"/>
                </a:solidFill>
                <a:latin typeface="Arial"/>
              </a:rPr>
              <a:t> </a:t>
            </a:r>
            <a:r>
              <a:rPr b="0" i="1" lang="en-US" sz="1200" spc="-1" strike="noStrike">
                <a:solidFill>
                  <a:srgbClr val="000000"/>
                </a:solidFill>
                <a:latin typeface="Arial"/>
              </a:rPr>
              <a:t>hominem</a:t>
            </a:r>
            <a:r>
              <a:rPr b="0" lang="en-US" sz="1200" spc="-1" strike="noStrike">
                <a:solidFill>
                  <a:srgbClr val="000000"/>
                </a:solidFill>
                <a:latin typeface="Arial"/>
              </a:rPr>
              <a:t> fallacy attacks or praises the person making the argument rather than addressing the argument itself.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8"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DED5-FCA5-456C-BB02-65FB25BDD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3249720" y="504720"/>
            <a:ext cx="3367080" cy="2525760"/>
          </a:xfrm>
          <a:prstGeom prst="rect">
            <a:avLst/>
          </a:prstGeom>
          <a:ln w="0">
            <a:noFill/>
          </a:ln>
        </p:spPr>
      </p:sp>
      <p:sp>
        <p:nvSpPr>
          <p:cNvPr id="2060"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ome people’s opinions are more reliable than others, so are some printed and Internet sources more reliable than others. Eliminate evidence that comes from a questionable, unreliable, or biased sourc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that was accurate for a particular time period may or may not be valid today. Consider when the evidence was gather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evidence you have found may be only indirectly related to the reason and should be eliminated in favor of evidence that provides more central support.</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choice of two quotations from experts, you will want to use the one from the person your audience is likely to find more compelling.</a:t>
            </a:r>
            <a:endParaRPr b="0" lang="en-US" sz="1200" spc="-1" strike="noStrike">
              <a:solidFill>
                <a:srgbClr val="000000"/>
              </a:solidFill>
              <a:latin typeface="Arial"/>
            </a:endParaRPr>
          </a:p>
        </p:txBody>
      </p:sp>
      <p:sp>
        <p:nvSpPr>
          <p:cNvPr id="2061"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F42C-087E-41A6-B35D-87E84F365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3249720" y="504720"/>
            <a:ext cx="3367080" cy="2525760"/>
          </a:xfrm>
          <a:prstGeom prst="rect">
            <a:avLst/>
          </a:prstGeom>
          <a:ln w="0">
            <a:noFill/>
          </a:ln>
        </p:spPr>
      </p:sp>
      <p:sp>
        <p:nvSpPr>
          <p:cNvPr id="2063"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steners will pay minimal attention to your arguments and will instead use simple cues to decide whether or not to accept your proposal. One important cue people use when they process information by the peripheral route is ethos. So, you will want to demonstrate good character via goodwill.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is the audience’s take on the speaker’s intentions toward them. When audience members believe in the speaker’s goodwill, they are willing to believe what the speaker says. Speakers must not only understand their audience, they must empathize with listeners. Empathy is the ability to see the world through the eyes of someone else. Speakers must also be responsive to the audience by acknowledging feedback, especially subtle negative cu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given here will increase your audience’s perception of your ethos so that your </a:t>
            </a:r>
            <a:r>
              <a:rPr b="0" i="1" lang="en-US" sz="1200" spc="-1" strike="noStrike">
                <a:solidFill>
                  <a:srgbClr val="000000"/>
                </a:solidFill>
                <a:latin typeface="Arial"/>
              </a:rPr>
              <a:t>terminal credibility</a:t>
            </a:r>
            <a:r>
              <a:rPr b="0" lang="en-US" sz="1200" spc="-1" strike="noStrike">
                <a:solidFill>
                  <a:srgbClr val="000000"/>
                </a:solidFill>
                <a:latin typeface="Arial"/>
              </a:rPr>
              <a:t>, their perception of your expertise at the end of your speech, is greater than your </a:t>
            </a:r>
            <a:r>
              <a:rPr b="0" i="1" lang="en-US" sz="1200" spc="-1" strike="noStrike">
                <a:solidFill>
                  <a:srgbClr val="000000"/>
                </a:solidFill>
                <a:latin typeface="Arial"/>
              </a:rPr>
              <a:t>initial credibility</a:t>
            </a:r>
            <a:r>
              <a:rPr b="0" lang="en-US" sz="1200" spc="-1" strike="noStrike">
                <a:solidFill>
                  <a:srgbClr val="000000"/>
                </a:solidFill>
                <a:latin typeface="Arial"/>
              </a:rPr>
              <a:t>, their perception of your expertise at the beginning of your speech.</a:t>
            </a:r>
            <a:endParaRPr b="0" lang="en-US" sz="1200" spc="-1" strike="noStrike">
              <a:solidFill>
                <a:srgbClr val="000000"/>
              </a:solidFill>
              <a:latin typeface="Arial"/>
            </a:endParaRPr>
          </a:p>
        </p:txBody>
      </p:sp>
      <p:sp>
        <p:nvSpPr>
          <p:cNvPr id="2064"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80F5-4DC9-4CA9-AF34-8FAF3EDED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3249720" y="504720"/>
            <a:ext cx="3367080" cy="2525760"/>
          </a:xfrm>
          <a:prstGeom prst="rect">
            <a:avLst/>
          </a:prstGeom>
          <a:ln w="0">
            <a:noFill/>
          </a:ln>
        </p:spPr>
      </p:sp>
      <p:sp>
        <p:nvSpPr>
          <p:cNvPr id="2066"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involved with something, we care about it and have an emotional stake in it. Emotions are the buildup of action-specific energy. When people experience the tension associated with any emotion, they look for a way to release the energy. So as a speaker, if you can give listeners an emotional stake in what you are saying, they are more likely to use their energy to listen carefully and internalize your speech.</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emotions are disquieting, so when people experience them, they look for ways to eliminate them. During your speech, if you can help your audience experience negative emotions, they will be more involved with what you are saying. As a result, they will be motivated to use their energy to listen carefully to you to see if you give them a way to reduce their feelings of discomfor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ame way, you can increase audience involvement with your proposal by tapping positive emotions, which are feelings that people enjoy experiencing. With negative emotions, the goal is to show how our proposal will help the audience to reduce or avoid the feeling. With positive emotions, the goal is to help the audience sustain or develop the feeling. </a:t>
            </a:r>
            <a:endParaRPr b="0" lang="en-US" sz="1200" spc="-1" strike="noStrike">
              <a:solidFill>
                <a:srgbClr val="000000"/>
              </a:solidFill>
              <a:latin typeface="Arial"/>
            </a:endParaRPr>
          </a:p>
        </p:txBody>
      </p:sp>
      <p:sp>
        <p:nvSpPr>
          <p:cNvPr id="2067"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BECB-D710-4D8C-B749-7C009382F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3249720" y="504720"/>
            <a:ext cx="3367080" cy="2525760"/>
          </a:xfrm>
          <a:prstGeom prst="rect">
            <a:avLst/>
          </a:prstGeom>
          <a:ln w="0">
            <a:noFill/>
          </a:ln>
        </p:spPr>
      </p:sp>
      <p:sp>
        <p:nvSpPr>
          <p:cNvPr id="2069"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lines can help speakers appeal to their listeners’ emotion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0"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FF54-F206-4EA0-BA53-4201634C2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3249720" y="504720"/>
            <a:ext cx="3367080" cy="2525760"/>
          </a:xfrm>
          <a:prstGeom prst="rect">
            <a:avLst/>
          </a:prstGeom>
          <a:ln w="0">
            <a:noFill/>
          </a:ln>
        </p:spPr>
      </p:sp>
      <p:sp>
        <p:nvSpPr>
          <p:cNvPr id="2072"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lines can help speakers appeal to their listeners’ emotion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3"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A63A-6918-475E-BC2E-C4CF36C51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sldImg"/>
          </p:nvPr>
        </p:nvSpPr>
        <p:spPr>
          <a:xfrm>
            <a:off x="3249720" y="504720"/>
            <a:ext cx="3367080" cy="2525760"/>
          </a:xfrm>
          <a:prstGeom prst="rect">
            <a:avLst/>
          </a:prstGeom>
          <a:ln w="0">
            <a:noFill/>
          </a:ln>
        </p:spPr>
      </p:sp>
      <p:sp>
        <p:nvSpPr>
          <p:cNvPr id="2024"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5"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F22E-1509-4B7C-83E7-E7A6EC8E9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3249720" y="504720"/>
            <a:ext cx="3367080" cy="2525760"/>
          </a:xfrm>
          <a:prstGeom prst="rect">
            <a:avLst/>
          </a:prstGeom>
          <a:ln w="0">
            <a:noFill/>
          </a:ln>
        </p:spPr>
      </p:sp>
      <p:sp>
        <p:nvSpPr>
          <p:cNvPr id="2027"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messages are everywhere. For example, friends try to persuade us to participate in certain activities and advertisements urge us to purchase any number of products and services whenever we turn on the radio or television or surf the Interne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nderstand the nature of persuasion, you can critically examine and evaluate the persuasive messages you receive and you can create effective and ethical persuasive messages of your own.</a:t>
            </a:r>
            <a:endParaRPr b="0" lang="en-US" sz="1200" spc="-1" strike="noStrike">
              <a:solidFill>
                <a:srgbClr val="000000"/>
              </a:solidFill>
              <a:latin typeface="Arial"/>
            </a:endParaRPr>
          </a:p>
        </p:txBody>
      </p:sp>
      <p:sp>
        <p:nvSpPr>
          <p:cNvPr id="2028"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D1E6-7F89-4A14-97BD-5C1CC1CF8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sldImg"/>
          </p:nvPr>
        </p:nvSpPr>
        <p:spPr>
          <a:xfrm>
            <a:off x="3249720" y="504720"/>
            <a:ext cx="3367080" cy="2525760"/>
          </a:xfrm>
          <a:prstGeom prst="rect">
            <a:avLst/>
          </a:prstGeom>
          <a:ln w="0">
            <a:noFill/>
          </a:ln>
        </p:spPr>
      </p:sp>
      <p:sp>
        <p:nvSpPr>
          <p:cNvPr id="2030"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messages are everywhere. For example, friends try to persuade us to participate in certain activities and advertisements urge us to purchase any number of products and services whenever we turn on the radio or television or surf the Interne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nderstand the nature of persuasion, you can critically examine and evaluate the persuasive messages you receive and you can create effective and ethical persuasive messages of your own.</a:t>
            </a:r>
            <a:endParaRPr b="0" lang="en-US" sz="1200" spc="-1" strike="noStrike">
              <a:solidFill>
                <a:srgbClr val="000000"/>
              </a:solidFill>
              <a:latin typeface="Arial"/>
            </a:endParaRPr>
          </a:p>
        </p:txBody>
      </p:sp>
      <p:sp>
        <p:nvSpPr>
          <p:cNvPr id="2031"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8175-4887-4DD5-8E06-ECF11DB2D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3249720" y="504720"/>
            <a:ext cx="3367080" cy="2525760"/>
          </a:xfrm>
          <a:prstGeom prst="rect">
            <a:avLst/>
          </a:prstGeom>
          <a:ln w="0">
            <a:noFill/>
          </a:ln>
        </p:spPr>
      </p:sp>
      <p:sp>
        <p:nvSpPr>
          <p:cNvPr id="2033"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ember new information, we have to believe it is factual, relevant, and important, so part of your task when giving an informative speech is to convince your audience about the truthfulness, relevance, and importance of your messag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before we will be convinced to believe or do something, we must understand (be informed about) what taking that stance or action means. While all speakers are expected to behave ethically, persuasive speakers have an extra burden to demonstrate that what they are advocating is in the best interest of 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4"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409E-5B89-406F-B0EE-1D6F6647D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sldImg"/>
          </p:nvPr>
        </p:nvSpPr>
        <p:spPr>
          <a:xfrm>
            <a:off x="3249720" y="504720"/>
            <a:ext cx="3367080" cy="2525760"/>
          </a:xfrm>
          <a:prstGeom prst="rect">
            <a:avLst/>
          </a:prstGeom>
          <a:ln w="0">
            <a:noFill/>
          </a:ln>
        </p:spPr>
      </p:sp>
      <p:sp>
        <p:nvSpPr>
          <p:cNvPr id="2036"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on the work of ancient Greeks and Romans, we can define </a:t>
            </a:r>
            <a:r>
              <a:rPr b="0" i="1" lang="en-US" sz="1200" spc="-1" strike="noStrike">
                <a:solidFill>
                  <a:srgbClr val="000000"/>
                </a:solidFill>
                <a:latin typeface="Arial"/>
              </a:rPr>
              <a:t>persuasion</a:t>
            </a:r>
            <a:r>
              <a:rPr b="0" lang="en-US" sz="1200" spc="-1" strike="noStrike">
                <a:solidFill>
                  <a:srgbClr val="000000"/>
                </a:solidFill>
                <a:latin typeface="Arial"/>
              </a:rPr>
              <a:t> as logical and well-supported arguments developed through rhetorical appeals to logos, ethos, and pathos. In this context, argument is not “to quarrel,” but rather means articulating a position with the support of logos, ethos, and pa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7"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38F8-CB1D-4425-9405-915974B4C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3249720" y="504720"/>
            <a:ext cx="3367080" cy="2525760"/>
          </a:xfrm>
          <a:prstGeom prst="rect">
            <a:avLst/>
          </a:prstGeom>
          <a:ln w="0">
            <a:noFill/>
          </a:ln>
        </p:spPr>
      </p:sp>
      <p:sp>
        <p:nvSpPr>
          <p:cNvPr id="2039"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LM, people process information in one of two ways: the central route or the peripheral route. People using the “central route” listen carefully, think about what is said, and may even mentally elaborate on the message. They base their decision to agree with and possibly take action primarily on appeals to logic and reasoning (logos). The “peripheral route” is a shortcut that relies on simple cues such as a quick evaluation of the speaker’s competence, credibility, and character (ethos) or a gut check about what the listener feels (pathos) about the messag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if we use the central or peripheral route? The personal importance we place on the issue. When we feel involved with an issue, we are willing to expend the energy necessary for processing on the central route. When the issue is less important, we take the peripheral rout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closely your audience members will follow your arguments depends on how involved they feel with your topic.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M also suggests that people who form attitudes as a result of central processing are less likely to change their minds than people whose attitudes have been formed based on peripheral cu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0"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9177-90C6-49D3-B9CF-2DC3F5CD8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3249720" y="504720"/>
            <a:ext cx="3367080" cy="2525760"/>
          </a:xfrm>
          <a:prstGeom prst="rect">
            <a:avLst/>
          </a:prstGeom>
          <a:ln w="0">
            <a:noFill/>
          </a:ln>
        </p:spPr>
      </p:sp>
      <p:sp>
        <p:nvSpPr>
          <p:cNvPr id="2042"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 of everyday arguments has three major elements: the </a:t>
            </a:r>
            <a:r>
              <a:rPr b="0" i="1" lang="en-US" sz="1200" spc="-1" strike="noStrike">
                <a:solidFill>
                  <a:srgbClr val="000000"/>
                </a:solidFill>
                <a:latin typeface="Arial"/>
              </a:rPr>
              <a:t>claim</a:t>
            </a:r>
            <a:r>
              <a:rPr b="0" lang="en-US" sz="1200" spc="-1" strike="noStrike">
                <a:solidFill>
                  <a:srgbClr val="000000"/>
                </a:solidFill>
                <a:latin typeface="Arial"/>
              </a:rPr>
              <a:t> (the conclusion the speaker wants the audience to believe), the </a:t>
            </a:r>
            <a:r>
              <a:rPr b="0" i="1" lang="en-US" sz="1200" spc="-1" strike="noStrike">
                <a:solidFill>
                  <a:srgbClr val="000000"/>
                </a:solidFill>
                <a:latin typeface="Arial"/>
              </a:rPr>
              <a:t>support</a:t>
            </a:r>
            <a:r>
              <a:rPr b="0" lang="en-US" sz="1200" spc="-1" strike="noStrike">
                <a:solidFill>
                  <a:srgbClr val="000000"/>
                </a:solidFill>
                <a:latin typeface="Arial"/>
              </a:rPr>
              <a:t> (the reason or evidence the speaker offers for accepting the claim), and the </a:t>
            </a:r>
            <a:r>
              <a:rPr b="0" i="1" lang="en-US" sz="1200" spc="-1" strike="noStrike">
                <a:solidFill>
                  <a:srgbClr val="000000"/>
                </a:solidFill>
                <a:latin typeface="Arial"/>
              </a:rPr>
              <a:t>warrant</a:t>
            </a:r>
            <a:r>
              <a:rPr b="0" lang="en-US" sz="1200" spc="-1" strike="noStrike">
                <a:solidFill>
                  <a:srgbClr val="000000"/>
                </a:solidFill>
                <a:latin typeface="Arial"/>
              </a:rPr>
              <a:t> (the logical statement that connects the support to the claim).</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ductive reasoning</a:t>
            </a:r>
            <a:r>
              <a:rPr b="0" lang="en-US" sz="1200" spc="-1" strike="noStrike">
                <a:solidFill>
                  <a:srgbClr val="000000"/>
                </a:solidFill>
                <a:latin typeface="Arial"/>
              </a:rPr>
              <a:t> is arriving at a general conclusion based on several pieces of specific evidence. </a:t>
            </a:r>
            <a:r>
              <a:rPr b="0" i="1" lang="en-US" sz="1200" spc="-1" strike="noStrike">
                <a:solidFill>
                  <a:srgbClr val="000000"/>
                </a:solidFill>
                <a:latin typeface="Arial"/>
              </a:rPr>
              <a:t>Deductive reasoning</a:t>
            </a:r>
            <a:r>
              <a:rPr b="0" lang="en-US" sz="1200" spc="-1" strike="noStrike">
                <a:solidFill>
                  <a:srgbClr val="000000"/>
                </a:solidFill>
                <a:latin typeface="Arial"/>
              </a:rPr>
              <a:t> is arguing that if something is true for everything that belongs to a certain class (major premise) and a specific instance is part of that class (minor premise), then we must conclude that what is true for all members of the class must be true in the specific instance (logical conclusion). This three-part form of deductive reasoning is called a </a:t>
            </a:r>
            <a:r>
              <a:rPr b="0" i="1" lang="en-US" sz="1200" spc="-1" strike="noStrike">
                <a:solidFill>
                  <a:srgbClr val="000000"/>
                </a:solidFill>
                <a:latin typeface="Arial"/>
              </a:rPr>
              <a:t>syllog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n argument </a:t>
            </a:r>
            <a:r>
              <a:rPr b="0" i="1" lang="en-US" sz="1200" spc="-1" strike="noStrike">
                <a:solidFill>
                  <a:srgbClr val="000000"/>
                </a:solidFill>
                <a:latin typeface="Arial"/>
              </a:rPr>
              <a:t>always</a:t>
            </a:r>
            <a:r>
              <a:rPr b="0" lang="en-US" sz="1200" spc="-1" strike="noStrike">
                <a:solidFill>
                  <a:srgbClr val="000000"/>
                </a:solidFill>
                <a:latin typeface="Arial"/>
              </a:rPr>
              <a:t> includes a claim and support, different logical relationships can exist between the claim and the support on which it is based. Four types of arguments commonly used in persuasive speeches are sign, example, analogy, and causation.</a:t>
            </a:r>
            <a:endParaRPr b="0" lang="en-US" sz="1200" spc="-1" strike="noStrike">
              <a:solidFill>
                <a:srgbClr val="000000"/>
              </a:solidFill>
              <a:latin typeface="Arial"/>
            </a:endParaRPr>
          </a:p>
        </p:txBody>
      </p:sp>
      <p:sp>
        <p:nvSpPr>
          <p:cNvPr id="2043"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D549-A03C-48A5-B8FB-BA0B4BAD2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3249720" y="504720"/>
            <a:ext cx="3367080" cy="2525760"/>
          </a:xfrm>
          <a:prstGeom prst="rect">
            <a:avLst/>
          </a:prstGeom>
          <a:ln w="0">
            <a:noFill/>
          </a:ln>
        </p:spPr>
      </p:sp>
      <p:sp>
        <p:nvSpPr>
          <p:cNvPr id="2045"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ertain events, characteristics, or situations always or usually accompany something, those events, characteristics, or situations are </a:t>
            </a:r>
            <a:r>
              <a:rPr b="0" i="1" lang="en-US" sz="1200" spc="-1" strike="noStrike">
                <a:solidFill>
                  <a:srgbClr val="000000"/>
                </a:solidFill>
                <a:latin typeface="Arial"/>
              </a:rPr>
              <a:t>signs</a:t>
            </a: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warrant for reasoning from sign can be stated as follows: “When phenomena that usually or always accompany a specific situation occur, then we can expect that specific situation is occurring (or will occur).” </a:t>
            </a:r>
            <a:endParaRPr b="0" lang="en-US" sz="1200" spc="-1" strike="noStrike">
              <a:solidFill>
                <a:srgbClr val="000000"/>
              </a:solidFill>
              <a:latin typeface="Arial"/>
            </a:endParaRPr>
          </a:p>
        </p:txBody>
      </p:sp>
      <p:sp>
        <p:nvSpPr>
          <p:cNvPr id="2046"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685E-6DF4-4711-A519-AEC51C969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B0721-E44D-454A-9ACA-A0A0E72C8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E087A-F6BF-4FFA-A5B5-1DE0C88E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061F3E-E2A4-41F6-AE89-951C8E042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885293-67D4-44FF-9EC8-67C8BFB3EA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EEDA48-FA9E-4D3C-AAA1-B22769A026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90CBBB-D579-46E1-80ED-73913F2C9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D05B44-EF26-4E60-B561-B6B4721C0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EE00F5-827B-4993-9683-558B977B0E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8BAF5D-3957-40F8-8CEF-54803C453A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8307FC-820B-4FDE-A25D-E32A861CE6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6F235B-4C2F-4511-BCFD-ACC1E7D625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5B6089-FB26-4B4A-81C2-B95F498F92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0881F-6183-46D9-9454-60FA6A2E7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A84605-1EC6-4F45-B3A9-C79891C8A5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E61890-6D3B-432E-9CA6-585B9904D6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985118-9969-4BCC-B6D4-44250F0610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497358-7576-40BE-9B7B-85040AE59C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102373-F94E-4A37-9E73-17490FC9C5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6AEE90-5AD4-40AB-B6B9-9BF663DC0C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D57B31-E457-44D3-AB92-81C2720A08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4B8E8B-287D-4545-9A40-4D8F8F025A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A36E05-B297-4EEF-A6C8-61A4753B86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67464A-B6E1-4B22-9B87-F460BD884E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EF6F9-A7F7-46FC-92E7-BEB520D4A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6E0429-2FA9-49F6-B9EC-4104948271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47C111-50A6-4A95-8FBB-9F33CA3EDD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11436D-2797-4EAD-857D-115CA0B763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378CFE-DBB5-4E28-945B-27C578F985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DC27FD-88A5-47A4-BAA3-698EF03460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FA58BC-3602-4E5D-85AA-0A1A41DE2F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CB99C4-2E26-4E73-99B2-DF9E526958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2CF915-8E4B-438F-8713-562B48B0F2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2201E5-A137-4EE4-9424-20E437F18B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D37D99-8E4F-48D9-9FA7-817E32FD86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BADEA-FF4A-4C5E-B359-8BA56E55F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B14C98-505D-4C66-876A-C5C35693D5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AF8DE2-2E6D-4C41-AB67-2C3BC9B572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F1EA61-1495-480F-8D60-9377B3EAD4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C4F736-5C35-4939-9890-A566D5743A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147E64-4FE6-4B3A-94C7-32637A9397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0B756B-DEA5-4FC2-AFA4-6DD15BFFB8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A16391-14E7-4F9F-9788-2E78308FB0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255879-AD2B-4131-95E5-29D2C08074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3609A0-5945-40F1-92B8-97CFE60114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D8C061-0841-4A94-AFD1-705BE1DAB6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2ABDD-304E-4E17-ACDE-6B3CCD9E0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9EE585-B675-4789-B6CD-C6C026C5F5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4539B6-BA84-4B60-808D-8856698235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B6C2F0-E3C6-44B1-BBE8-30482FD3BD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4B4DFF-4628-4F98-B5EB-F208145816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F6BD2D-B01F-4E66-867B-5621A273042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E8FC1D6-6D2E-4F2A-B8E1-80E50858EE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802F60-D361-4999-9795-735BB3C200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195502-FFE0-42AA-B4CB-FED5E87747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B5AFDA-F11B-4323-B5F7-65CB22A91F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29C53E-1AE4-460E-B497-DE029524A7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0C463-30B3-4181-9EC6-897EC1DF3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01BDCD-F29A-4889-8D90-283D01935B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ABD86B-9506-4D99-B7FD-5E40115DAB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542A2E-99E0-4EF2-83BC-72A77448C0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C2574E-B7ED-4723-B321-651162060C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CB25D4-73C6-413A-9828-AC0107EFF8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C4B01E5-C9DA-4AC8-9BB1-A222ABBA580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23658D-E69A-4D66-BE8E-F9204F53BC1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5353D93-F967-4766-A75E-89480EAA7D2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42123D-6AE8-4C16-8AB6-140C1D282F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1FF91B2-5D3B-4275-B261-4163216CAB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9D8BF-5326-489E-AE7D-319009A3E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C3C36F-9B01-4D21-9970-4117635333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14C15D-DF29-4263-AAF0-455D273D4F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5FBC68-4B49-4C67-BBA6-E4F77DD370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7D144A-931D-42EE-8196-065B16E051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3E1135-9CA0-4D0C-A794-C6A10C9286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3D5CBB-563F-4F81-A324-D348F66E6A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0BB3518-795D-4B1C-90EB-050E809187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607DEE4-868A-4B42-A185-615686C8E88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83B8505-C376-4623-A0A3-9546E8D610B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F9AC93F-2447-4E18-92A0-161FDB3E86D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B672B-2EDB-4B8A-98F9-0690690FB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01509B1-4454-4EAC-BC41-2CC73E4223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0560F3-9C67-415E-AB19-C58B8C36C6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37C3042-D68B-4F6B-9A15-13DC01E6C1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E116463-542F-4EE5-97BA-43D04015024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AE3C02-5064-4CAA-A621-0A71FD9095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A85B8FF-F987-42FE-A6B6-C8DD8462D5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DED77F-80FA-435F-B569-A862505BE4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0ADA1D-B6CC-40BE-9C8D-809F54210E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15948A-7F5F-4057-84A7-C1614C71E7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10FA673-C13E-4A49-9D1F-90E1122B502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77EC0-C3C3-42E4-8B19-0D302DFF9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86C5147-B440-4D16-895A-09BE1E7939A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4400F76-C462-45A2-8BA0-182863CCC48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654BD34-3D24-4F97-B3E7-4416FA97B24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D90CB6F-002E-4D1C-924B-6A43DAEAD3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573C4DC-80E4-4067-9138-8A49598C3A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123190-DBF5-45BD-B809-185A5C625B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F6CACA3-A482-4CDC-92D3-94D91A90B4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4339CA7-675B-4925-A0CC-BCB6BF435D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16172D-F3FB-4002-8F01-4D2788D713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168D1F-345E-41B2-A8F8-4D0A456825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1F4A1-D9BA-4109-8388-ADDADEA44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A413E7-0618-4BE0-BEAD-CDD49039796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DCC0998-0CAB-49D2-B10F-492F2D51D84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565DBF8-2D7E-489B-8092-D05AD8DF427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C676B72-E0EB-4068-A01D-A1F9C2C24C5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515909-B7C3-492D-84B3-9DADA5187E8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D34FDF-5C2E-4127-944E-ADEBEB741F5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CE2EEF9-E3AF-4B07-84BE-8B5A764109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B247EC-49C9-445A-AB0C-8077A0AADD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005E2DD-8835-4B46-B9DB-27622FEDEEA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FD009E-8614-4BA8-AB4E-AC9557AE24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F5075-E081-4D4F-BCB7-3A7571199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61967-DD33-4F49-9A3F-09004AA1D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FD7B28B-AD62-4EE7-A78C-EC0467A3B5D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4F0D15-60B3-4279-B03B-31CEC82773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FFC88DF-4E05-4BFF-A81D-311B8B0490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226D036-C30B-4DC8-8C05-8868960C941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E1F4710-84CF-4E07-BD30-A6D4E6CD91E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D85B21A-5C8A-4BD8-8349-71383B65FE7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82CEE3-D694-41BC-BF93-81A4B7081F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755F969-57D0-4C0E-800D-0EECF8058F4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05A1068-1DE4-4505-9D18-B137A8E8547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F2107F0-0453-487F-903A-4C05DEC2763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FB3F5-52C0-4245-9915-2D6456019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B7EC0ED-8D23-4AD5-9DBC-EDF1CEE5AD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C32BDBA-F7DB-4082-A218-038852D0E06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565186F-6A02-439C-A4BC-93E79A72A4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B17C59-F0ED-4DB0-AF09-B610144B2A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C08696-9975-4293-AB59-0B8A11F8F36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D57D8DC-57EE-414E-A8EA-0B46F7996CC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43F7215-B486-48CB-AC4E-5AB97FA7EF0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75F067E-7097-4383-9282-525BD93B7A0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1FDE70E-C478-45D2-BA58-FE746832E4A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77D116-32B5-46C4-A26A-E0F2EDC4D27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A9239-86C9-48F3-8401-B7ABD2363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1E60B7E-C27D-4D36-9185-EBA35683F99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BE3263F-4237-4383-B166-6CDA6F5C9A3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5197A65-5D60-4E9B-A861-1B299CFA97F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BA28494-D5CF-47BF-B831-760F87E2CAF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66DAE7D-25DC-49E2-97BE-A6E67B5AEF5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A4F7A0-1BA4-44FF-8023-9B543C1D6B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01CA4A4-4E26-4469-A75F-2919BB8FCC4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1E60684-5906-45C5-8783-0AAA653AFE0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4F4EE36-AF8D-4B40-B778-91FC1BBEF5A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203A14F-5C3A-4C7C-A4EA-E54A973D721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CBD9B-01BC-4379-B567-EE32CAFB9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2884B0-0997-4520-954F-B2666C3A87A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0E9D4E-9154-4559-A215-A043379B461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EF919A4-45F6-45E8-9D36-7B7FAAA1B0D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03E6AEF-CA87-4FF0-B8DC-B94A8938878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EE8E7B3-D8A6-490F-BED4-647A5BE5B2C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C0FAF91-426C-46A2-8B37-8468470141F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F1366FD-6087-47AF-B86A-56A81B5B2FB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F8AA63D-7304-4E91-9090-ABA9B0D21C4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0676798-95A0-4FBC-A0B2-36B7A99C3C1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F7A6AB8-9FFC-469D-8840-A0E62C83D71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86733-A9E8-47BB-824F-3AF61949C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6C2F309-18EB-4C91-838F-120179EAEEE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5EED4FA-200D-4E50-9F86-B7FA35D3A7A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7F5F1AB-5C51-472E-8FC3-33B4260760A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BB2DA1F-2525-4AAB-A31D-172901F6CCF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3E783E0-0940-4D82-988E-7CB1EE86AB3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ADAA1B7-8C5C-42F4-B723-C2FE6162713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219D695-BE0E-450B-8748-1CADA3436E4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BA2E052-4CB2-4600-BEE8-ECF7D924E0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37925C8-B348-4068-9D87-2FF4797963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E5ACC3-B4B3-4F7D-A144-466633BFD5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F850E9-86FA-4BD4-ACB1-94D132F928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A896D58-510E-4CC4-9579-8EDF913F74E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CC25350-9165-4926-BC02-EAF0ACED040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CB4F5ED-4AE8-41F3-8DD1-50D7254DEA4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586E9A0-026B-4B9F-9A0B-3EFCDCB685D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64B14D3-5671-43BC-9E9F-B3DA3BC7E22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57052C8-64F5-42CB-B3E7-14BC942D770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4728218-7A5E-497C-A374-B9BBEB97341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9634400-6B9A-4817-837D-B18A798E721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E1119DB-C70F-4EBD-8A14-8B4D58849BB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4527D04-C742-4201-9357-57AF146CC94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16A29-E87E-4A18-98DA-D51EA03F88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24264C6-89D2-41EB-B1AF-9820B2BBFC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5612F41-4914-4FF4-956B-21B1751930C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BA715E2-2422-4110-9706-767E72F6E82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0EAEF7F-EE4F-4821-85A5-86FD47614D0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76F3397-839B-4DAA-9AB8-3668B208583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1CFCA8E-7CFC-4289-AE6D-3E9E7CEB636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D718D82-4A03-40E8-B305-5A74B00C4D4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0AAE89A-CC17-4250-8FB9-E6472C9B4B0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CA51B4F-A4D5-47FA-A340-44D13679247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01C72E6-6ACF-43C0-8D79-49FDD5A437E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E5959F-1093-46C6-81A7-93A9B87AB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EE2E8C3-D6C9-4FAD-A028-E40D373764F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29E856D-8693-41F8-9A2A-397B648B0B0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C34F9EC-B6AC-4D44-92AF-A61E8DE84B4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0AAC219-284F-4D60-9FF6-F378B2A021E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DF448AF-4894-4B10-A5C9-6AA62095624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B443827-EE00-499C-A64D-9F87BA1B32C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2852658-37AB-4832-83C9-92A7FAF7CD7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041B83E-3658-4ED1-9C18-1C7150BA475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9A244AB-5E1D-45F0-ADD2-28D18B8F5BB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6F7A889-59E7-452B-A745-3B752F135DA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1AD9E-26F4-40C8-A7D3-0B5E11B9C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377A29F-7342-4A69-868C-0633BAD88AD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7C5B9D4-EAC2-4409-9CB0-374A5D8E47A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C5E2BE9-7D5B-49B8-8C79-3A01DDBFC0A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61BAEE1-4F1B-4B99-8FF5-0E89D266073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5BEBFB1-EE1C-40FD-9C36-79DBBFC496B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35ACA14-BA45-4A00-BC55-F53E3018ACE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C47D561-11B5-408D-A0B1-06FE58E5A63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9F25904-BBA9-48EE-8C3B-B5D03344F89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FCD240C-2BE7-4BD7-91CD-1223142ED08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D5A5AD4-EEE5-42DB-904A-35DB92FEAA4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9C75C-C401-4FA1-8492-A37A56CDE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ECC1776-79B2-4147-8128-BEBCEDF9E63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435DEDC-8458-4F46-9AED-4E8B2AB3817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99AED76-341D-437C-A329-601129A7367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7BAAECC-1E88-4AA4-B145-3EE526217C6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54BCE38-71AE-4374-B381-DE593A738E5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77A1626-DA72-4484-8FA5-2CB23CA7C16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FD629DC-74C2-4CE2-AC07-E99C4C81EDE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D626A82-8A8C-4863-B52D-D888F283442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DE4FC74-0D38-46E2-93F8-489DF654DD8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D35E39B-2F06-4AA5-BE3D-7F265A633EA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7E5E-5225-47AD-A355-A4C16EFC1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746E8-9386-4421-8EFA-A602AE180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A666C99-5812-4F5F-A3CC-3C2305BDE8F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6B53E82-B614-4609-8D03-C8656D9A807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1859122-CA9E-4E54-97DD-5629B0DCE4C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FF6C5AD-62AA-40E9-8E24-49F8DD61640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101BDC1-1AE7-446C-B105-30BE630C6E2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7C78876-B2C8-4FBC-BBF6-2BB6EEAB3EE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9536024-EEAC-4D4B-8894-DF236218D8F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784E4AF-1D7B-48A1-BAC7-B2E2AD926DF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D09DC97-2337-426D-AC4D-D40B616EE22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837425A-80AD-40F0-869E-1649EB99B3C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2D88A-9909-4F46-B0AC-C04F742BB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6719356-E5E3-406F-B94E-4AB0CC82A0E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9F9436A-1B36-49FE-840F-63F9DD58FC5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4BE6082-11E3-4C85-B459-07AB6D51BE7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E2B09A1-95D9-4BCE-9B6A-AD5B39A40A3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C3C2C2F-E93C-409D-89ED-41C50C8FCF3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D21E163-14AE-4689-9E8E-96E4C4742D1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721A008-6276-451C-95DA-B89EDDAA269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3DE0981-7B17-4B98-B679-4978544FBFE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7BF1FE5-52FF-474C-95B8-8AB8D0E17EB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7FA0E16-CF41-479F-B468-5A25EB22C4E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5F8BF-81C2-4154-A377-3880E0284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70B7CF2-4F97-4DE3-AD98-B9EB94246E7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39D17B4-9CB3-43B9-8F28-401FE00F31B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FA74FC2-459A-4A34-84D3-2A07173C830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9B4026E-D06D-4212-807E-E90F812078B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12C0AD4-EFC3-4701-97A0-E79AC42FA83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3A111A6-AEAB-4C45-A46A-5D6F15C2C0A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B1BBB6D-148A-4340-ACF4-FE13DD4CC50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A1656AF-BFB0-43F9-ACA1-C8EB67EB181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E6B367A-4C22-4BBB-B808-7C43DF5C103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B8F71F6-BC3F-4EE0-B840-C2F4F3E07F7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69734-A180-4BFB-8CF3-701F5B471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36CA52A-204A-4DF0-A220-7F79B901B3D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734214D-6536-4EC2-B466-AA75BE8AC4C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FDBA6C3-62B8-401C-AA37-E62480285C7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D04F3CD-64D6-4F0A-A7F4-C876DFCF46F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A535F2D-4C45-4F21-866C-0B096D8373A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197F22E-6CF4-4EA2-9EB3-9E751A24E99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7129A3C-8D70-48ED-B695-BECD884E29F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750F58F-6C5C-4BC7-947A-1A8171A3A16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C4EB9DB-CF74-45BB-9752-BA520994919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761D76A-45B3-41AF-B615-8636CCF5B60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17D52-232F-469A-83C5-17263525C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5F3E4E7-5DAD-4E08-BDDA-34E119AD4B3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04B3E53-F9FB-4D4A-8CB7-A00E04AB71B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F1BCC5F-CF71-472C-BE35-371E98BE190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3633A0E-7631-4F76-A6D0-4F1FE927585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4AA47FE-2BA1-40E2-9398-71454795DB7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7668F6D-23D5-4E66-A5D8-7677D47169F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D35FCA1-F7D1-44AD-A9EB-6A86B617EF9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F033590-7012-44D6-8486-7F7B8B6194B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D6787DC-4977-4FCA-99B7-1AE31E3D854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24F204-E72C-4D0F-9ED7-79E5D0CB1B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F61AF-63CC-4210-9288-F6C05B52E4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743F5F-A5BF-4D02-8ADC-770DA17FAF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44D8D-F23B-4C89-8ECF-137E01353B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dt" idx="9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264D35-53AF-4DA3-A936-94B71FCA85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dt" idx="9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dt" idx="9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dt" idx="9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dt" idx="9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dt" idx="9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43A50-85F0-4CD9-B756-76CB40526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7734F-1403-4F4D-80FA-17C97405A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dt" idx="9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dt" idx="9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dt" idx="9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dt" idx="9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dt" idx="9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dt" idx="9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dt" idx="9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A8E2A-BA20-4607-8345-D877EE68B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dt" idx="9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dt" idx="9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dt" idx="9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dt" idx="9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dt" idx="9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dt" idx="9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dt" idx="9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434E5-D219-47D8-BF97-625EE723C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dt" idx="9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dt" idx="9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dt" idx="9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dt" idx="9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dt" idx="9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dt" idx="9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dt" idx="9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68EEF-8AD2-48C3-9F31-303605A7A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dt" idx="9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dt" idx="9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dt" idx="9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dt" idx="101"/>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dt" idx="101"/>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dt" idx="101"/>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dt" idx="101"/>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dt" idx="101"/>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dt" idx="101"/>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A7740-C49D-4013-BE1C-92263CE48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dt" idx="101"/>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dt" idx="101"/>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dt" idx="101"/>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dt" idx="10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dt" idx="10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dt" idx="10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dt" idx="10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dt" idx="10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DCCD9-6798-4FD7-B2D6-3A2C3846B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dt" idx="10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dt" idx="10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dt" idx="10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dt" idx="10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20BCF-4052-492A-9AA8-83EE2DD22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dt" idx="10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7A2581-5B09-41F8-831E-4A881199B4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dt" idx="107"/>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dt" idx="107"/>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dt" idx="107"/>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dt" idx="107"/>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dt" idx="107"/>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dt" idx="107"/>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dt" idx="10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477212-2E0C-4AEA-9021-236ED3A1FB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dt" idx="107"/>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dt" idx="10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dt" idx="10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dt" idx="10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dt" idx="10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dt" idx="10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dt" idx="10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9093BF-C2D3-4B5E-8A9B-8DC7B4B5EE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dt" idx="10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dt" idx="10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dt" idx="10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dt" idx="11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dt" idx="11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dt" idx="11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dt" idx="11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dt" idx="11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dt" idx="11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3890E-BCE0-4E75-B297-FB8CC4375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1421B-4F78-4D8C-B83D-9C3CAF4AEA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dt" idx="11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dt" idx="11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dt" idx="11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dt" idx="113"/>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dt" idx="113"/>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dt" idx="113"/>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dt" idx="113"/>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dt" idx="1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03BE45-687D-4ED2-BA1B-AF72AC62E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dt" idx="113"/>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dt" idx="113"/>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dt" idx="113"/>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dt" idx="113"/>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dt" idx="115"/>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dt" idx="115"/>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dt" idx="1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7E4389-CFFD-493E-8A1D-7E43E64CE8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dt" idx="115"/>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dt" idx="115"/>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dt" idx="115"/>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dt" idx="115"/>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dt" idx="115"/>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dt" idx="115"/>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dt" idx="11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46D13E-1810-4089-A02B-8247B5249B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dt" idx="117"/>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dt" idx="117"/>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dt" idx="117"/>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dt" idx="117"/>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dt" idx="117"/>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dt" idx="117"/>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dt" idx="11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87CF5-B306-4C13-9CC4-807C6CC76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dt" idx="117"/>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dt" idx="119"/>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dt" idx="119"/>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dt" idx="119"/>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dt" idx="119"/>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dt" idx="119"/>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dt" idx="119"/>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1D20D-97E2-43D5-8EFD-5113A5256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dt" idx="119"/>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dt" idx="119"/>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dt" idx="119"/>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dt" idx="121"/>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dt" idx="121"/>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dt" idx="121"/>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dt" idx="121"/>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dt" idx="121"/>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dt" idx="121"/>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62B30-6178-4181-A1D6-12FFE6873A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dt" idx="121"/>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dt" idx="121"/>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dt" idx="12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694E4-2F53-4FC7-8ECB-34555D7059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A54A2B-7009-439C-A0B3-90E741E11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8492F1-8195-4169-BBB4-2C7216D185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99FC3-7503-4256-A47A-81BCE4648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B27477-018A-4FDB-9258-6612BE2F59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574DFD-1BC6-4419-9169-08E282CADF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79B22C-0B7B-430C-AC37-637F1E78B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D26BC-2DFC-4F06-A159-F5B266D996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2C629A-BA3E-497F-90A8-581FBEF759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25C93-1AE1-410E-9061-2D2E1EA80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A1F05C-C593-4A44-A0E3-18336A9EC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0974A-5668-4A96-9C2D-2F6144F0C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FCBC2-9F77-4901-A55E-CBD80220A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A5D79-2A47-4EBF-A663-B43AF2D1A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B74FD-95BE-48E6-9A46-4C55D9A9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0DDF76-F3C6-46AF-8896-6D9CCA5FF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2FEE9A-998A-4553-B1DB-80F60CEFA4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0E90EE-1CC1-40E4-9F8F-FD4FE950D2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231D37-6A86-4F15-85EA-C11F294ED7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DCED1E-7039-4537-A0F4-FA7092B65D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325A5C-0164-4E7F-8552-3F753DE0AA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7CCBA8-8250-4810-B779-98A7D197B3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AD2410-6707-462B-B288-9C13607418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FA6381-E919-40D9-AEAA-CE55F17E1B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D34286-53BB-4253-891D-D317A6DE0A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2D91F-801B-401A-AACB-2673D371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86FE1-2ECC-4E1F-99BD-451F0B16F9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13DD2-035A-42B3-AB2A-3B8C110E1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1B8A66-3C8E-422C-B89D-D527ADA904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91915A-A803-4155-B7A6-BFC1B75C4D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A9B596-8872-4ECC-B651-AF40390C09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9EE8B2-651B-4FDF-8A8C-2A49B9D5C3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A1A043-5500-42D8-8B92-B1E3062098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96C350-AB77-4B0E-B2A3-E8E090A474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CD4109-75B5-4BA8-B42E-85AF9B540F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6CA795-9CAD-4956-985E-FF6B06BCCD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8C23-8BAC-47DB-A8CD-A17CFB0C2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BE0BF9-4236-4B88-A6B8-0434F3C7B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86FA82-63C0-4F99-B2CD-64607852C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09C35B-E615-4FA5-9BC6-EC7F4505DE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3FEDC-8FCA-4E76-A3E7-1A732F8FCC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766A33-4E48-4FC3-A0F7-CA1F8D76F4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2DB2FC-8C82-40CB-8075-89A423DB3D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0B625E-C738-4664-ABBD-764B8FB5CC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CD8F72-26E3-497F-A190-D826B36899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D57C3A-D157-45B2-8B6D-230C8D6D74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017F1D-04BA-45EF-9ED2-4258CFCCD2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A1A3-9E28-4EE8-8A12-1E98549AF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D240-D44A-4D1F-B997-C7BE641FF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75E8-85A2-495D-9FEE-D80B388F4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6D32-92EA-4941-8B86-74397A58F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2CD7-96A8-4CA2-99CD-2FD7F1291C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B9D3-5577-4946-8A40-3B939D751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3F69-058E-48DF-AA55-BA625BA29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E5DC-04F2-403C-B740-734CA7F16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6B7C-81A7-41C0-B4A1-EDA043297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2F8B-5874-4584-87D1-701D665E1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761E-DA2E-4347-B8A3-B18810E1E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F404-408B-4090-BDAB-1C5CADAE4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35AB-D73B-4262-88B5-48A646AE7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F14F-9CE6-4380-8B1E-7AC2FF651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DD49-C0DF-4AB3-804E-A364829C8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A8B4-02E2-4189-A773-8936CAD14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4331-BEFA-4CD2-AF0C-8012F31A2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DE86-4146-4363-B7F7-1F473A41E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E858-5E8C-420D-A501-4E30BBAC2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D77C-9D2D-4F9B-B6BA-690C4334E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27A1-C9E9-45A3-BC05-F372E9B33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D608-3D38-48CC-91B0-4D2D52853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FDFC-E27C-45B1-8063-9DCB8FD92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0"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0" name="PlaceHolder 3"/>
          <p:cNvSpPr>
            <a:spLocks noGrp="1"/>
          </p:cNvSpPr>
          <p:nvPr>
            <p:ph type="ftr" idx="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0"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1" name="PlaceHolder 3"/>
          <p:cNvSpPr>
            <a:spLocks noGrp="1"/>
          </p:cNvSpPr>
          <p:nvPr>
            <p:ph type="dt" idx="9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PlaceHolder 4"/>
          <p:cNvSpPr>
            <a:spLocks noGrp="1"/>
          </p:cNvSpPr>
          <p:nvPr>
            <p:ph type="ftr" idx="9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2"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4" name="PlaceHolder 3"/>
          <p:cNvSpPr>
            <a:spLocks noGrp="1"/>
          </p:cNvSpPr>
          <p:nvPr>
            <p:ph type="dt" idx="9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PlaceHolder 4"/>
          <p:cNvSpPr>
            <a:spLocks noGrp="1"/>
          </p:cNvSpPr>
          <p:nvPr>
            <p:ph type="ftr" idx="10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5"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PlaceHolder 4"/>
          <p:cNvSpPr>
            <a:spLocks noGrp="1"/>
          </p:cNvSpPr>
          <p:nvPr>
            <p:ph type="ftr" idx="10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6"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7" name="PlaceHolder 3"/>
          <p:cNvSpPr>
            <a:spLocks noGrp="1"/>
          </p:cNvSpPr>
          <p:nvPr>
            <p:ph type="dt" idx="10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PlaceHolder 4"/>
          <p:cNvSpPr>
            <a:spLocks noGrp="1"/>
          </p:cNvSpPr>
          <p:nvPr>
            <p:ph type="ftr" idx="10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EED5-6E04-41EE-B899-FF2B5FC0B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8"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9"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0" name="PlaceHolder 3"/>
          <p:cNvSpPr>
            <a:spLocks noGrp="1"/>
          </p:cNvSpPr>
          <p:nvPr>
            <p:ph type="dt" idx="1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PlaceHolder 4"/>
          <p:cNvSpPr>
            <a:spLocks noGrp="1"/>
          </p:cNvSpPr>
          <p:nvPr>
            <p:ph type="ftr" idx="1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1" name="PlaceHolder 3"/>
          <p:cNvSpPr>
            <a:spLocks noGrp="1"/>
          </p:cNvSpPr>
          <p:nvPr>
            <p:ph type="dt" idx="1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PlaceHolder 4"/>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2" name="PlaceHolder 3"/>
          <p:cNvSpPr>
            <a:spLocks noGrp="1"/>
          </p:cNvSpPr>
          <p:nvPr>
            <p:ph type="dt" idx="1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PlaceHolder 4"/>
          <p:cNvSpPr>
            <a:spLocks noGrp="1"/>
          </p:cNvSpPr>
          <p:nvPr>
            <p:ph type="ftr" idx="1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3" name="PlaceHolder 3"/>
          <p:cNvSpPr>
            <a:spLocks noGrp="1"/>
          </p:cNvSpPr>
          <p:nvPr>
            <p:ph type="dt" idx="1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PlaceHolder 4"/>
          <p:cNvSpPr>
            <a:spLocks noGrp="1"/>
          </p:cNvSpPr>
          <p:nvPr>
            <p:ph type="ftr" idx="1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4" name="PlaceHolder 3"/>
          <p:cNvSpPr>
            <a:spLocks noGrp="1"/>
          </p:cNvSpPr>
          <p:nvPr>
            <p:ph type="dt" idx="1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PlaceHolder 4"/>
          <p:cNvSpPr>
            <a:spLocks noGrp="1"/>
          </p:cNvSpPr>
          <p:nvPr>
            <p:ph type="ftr" idx="1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5" name="PlaceHolder 3"/>
          <p:cNvSpPr>
            <a:spLocks noGrp="1"/>
          </p:cNvSpPr>
          <p:nvPr>
            <p:ph type="dt" idx="1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PlaceHolder 4"/>
          <p:cNvSpPr>
            <a:spLocks noGrp="1"/>
          </p:cNvSpPr>
          <p:nvPr>
            <p:ph type="ftr" idx="1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5561-F55B-4C9E-999C-98222FA62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56A1-77F8-431A-AE72-BBCA22C4F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1097-F54F-4344-845A-4F19092F6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D66E-1937-4263-B090-1CC01E9B6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77ED-795C-4E69-8800-5FA08AA39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0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5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5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0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0" name="Text Box 6"/>
          <p:cNvSpPr/>
          <p:nvPr/>
        </p:nvSpPr>
        <p:spPr>
          <a:xfrm>
            <a:off x="0" y="209376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Presentations that Sell!</a:t>
            </a:r>
            <a:endParaRPr b="0" lang="en-US" sz="6000" spc="-1" strike="noStrike">
              <a:solidFill>
                <a:srgbClr val="000000"/>
              </a:solidFill>
              <a:latin typeface="Arial"/>
            </a:endParaRPr>
          </a:p>
        </p:txBody>
      </p:sp>
      <p:sp>
        <p:nvSpPr>
          <p:cNvPr id="1971"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3"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i="1" lang="en-US" sz="3200" spc="-1" strike="noStrike">
                <a:solidFill>
                  <a:srgbClr val="000000"/>
                </a:solidFill>
                <a:latin typeface="Arial"/>
              </a:rPr>
              <a:t>argue from example </a:t>
            </a:r>
            <a:r>
              <a:rPr b="0" lang="en-US" sz="3200" spc="-1" strike="noStrike">
                <a:solidFill>
                  <a:srgbClr val="000000"/>
                </a:solidFill>
                <a:latin typeface="Arial"/>
              </a:rPr>
              <a:t>when the support statements you use are examples of the claim you are making. </a:t>
            </a:r>
            <a:endParaRPr b="0" lang="en-US" sz="32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nough examples cited?</a:t>
            </a:r>
            <a:endParaRPr b="0" lang="en-US" sz="28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examples typical?</a:t>
            </a:r>
            <a:endParaRPr b="0" lang="en-US" sz="28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negative examples accounted for?</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4"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rgument from Example</a:t>
            </a:r>
            <a:endParaRPr b="0" lang="en-US" sz="4800" spc="-1" strike="noStrike">
              <a:solidFill>
                <a:srgbClr val="000000"/>
              </a:solidFill>
              <a:latin typeface="Arial"/>
            </a:endParaRPr>
          </a:p>
        </p:txBody>
      </p:sp>
      <p:sp>
        <p:nvSpPr>
          <p:cNvPr id="199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6" name=""/>
          <p:cNvSpPr txBox="1"/>
          <p:nvPr/>
        </p:nvSpPr>
        <p:spPr>
          <a:xfrm>
            <a:off x="457200" y="1716120"/>
            <a:ext cx="8229600" cy="452592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a:t>
            </a:r>
            <a:r>
              <a:rPr b="0" i="1" lang="en-US" sz="3600" spc="-1" strike="noStrike">
                <a:solidFill>
                  <a:srgbClr val="000000"/>
                </a:solidFill>
                <a:latin typeface="Arial"/>
              </a:rPr>
              <a:t>argue from analogy</a:t>
            </a:r>
            <a:r>
              <a:rPr b="0" lang="en-US" sz="3600" spc="-1" strike="noStrike">
                <a:solidFill>
                  <a:srgbClr val="000000"/>
                </a:solidFill>
                <a:latin typeface="Arial"/>
              </a:rPr>
              <a:t> when you support a claim with a single comparable example that is so significantly similar to the subject of the claim as to be strong proof. </a:t>
            </a:r>
            <a:endParaRPr b="0" lang="en-US" sz="3600" spc="-1" strike="noStrike">
              <a:solidFill>
                <a:srgbClr val="000000"/>
              </a:solidFill>
              <a:latin typeface="Arial"/>
            </a:endParaRPr>
          </a:p>
          <a:p>
            <a:pPr lvl="1" marL="708840" indent="-328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ubjects being compared in every important way?</a:t>
            </a:r>
            <a:endParaRPr b="0" lang="en-US" sz="2800" spc="-1" strike="noStrike">
              <a:solidFill>
                <a:srgbClr val="000000"/>
              </a:solidFill>
              <a:latin typeface="Arial"/>
            </a:endParaRPr>
          </a:p>
          <a:p>
            <a:pPr lvl="1" marL="708840" indent="-328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ny of the ways in which the subjects are dissimilar important to the outcome?</a:t>
            </a:r>
            <a:endParaRPr b="0" lang="en-US" sz="2800" spc="-1" strike="noStrike">
              <a:solidFill>
                <a:srgbClr val="000000"/>
              </a:solidFill>
              <a:latin typeface="Arial"/>
            </a:endParaRPr>
          </a:p>
        </p:txBody>
      </p:sp>
      <p:sp>
        <p:nvSpPr>
          <p:cNvPr id="199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2</a:t>
            </a:r>
            <a:endParaRPr b="0" lang="en-US" sz="1600" spc="-1" strike="noStrike">
              <a:solidFill>
                <a:srgbClr val="000000"/>
              </a:solidFill>
              <a:latin typeface="Arial"/>
            </a:endParaRPr>
          </a:p>
        </p:txBody>
      </p:sp>
      <p:sp>
        <p:nvSpPr>
          <p:cNvPr id="199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rgument from Analo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9" name=""/>
          <p:cNvSpPr txBox="1"/>
          <p:nvPr/>
        </p:nvSpPr>
        <p:spPr>
          <a:xfrm>
            <a:off x="457200" y="1716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i="1" lang="en-US" sz="3200" spc="-1" strike="noStrike">
                <a:solidFill>
                  <a:srgbClr val="000000"/>
                </a:solidFill>
                <a:latin typeface="Arial"/>
              </a:rPr>
              <a:t>argue from causation</a:t>
            </a:r>
            <a:r>
              <a:rPr b="0" lang="en-US" sz="3200" spc="-1" strike="noStrike">
                <a:solidFill>
                  <a:srgbClr val="000000"/>
                </a:solidFill>
                <a:latin typeface="Arial"/>
              </a:rPr>
              <a:t> when you support a claim by citing events that have occurred that result in the claim. </a:t>
            </a:r>
            <a:endParaRPr b="0" lang="en-US" sz="32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events alone sufficient to cause the stated effect?</a:t>
            </a:r>
            <a:endParaRPr b="0" lang="en-US" sz="28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other events accompanying the cited events actually cause the effect?</a:t>
            </a:r>
            <a:endParaRPr b="0" lang="en-US" sz="28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cause-effect relationship consisten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gument from Causation</a:t>
            </a:r>
            <a:endParaRPr b="0" lang="en-US" sz="4400" spc="-1" strike="noStrike">
              <a:solidFill>
                <a:srgbClr val="000000"/>
              </a:solidFill>
              <a:latin typeface="Arial"/>
            </a:endParaRPr>
          </a:p>
        </p:txBody>
      </p:sp>
      <p:sp>
        <p:nvSpPr>
          <p:cNvPr id="200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2" name=""/>
          <p:cNvSpPr txBox="1"/>
          <p:nvPr/>
        </p:nvSpPr>
        <p:spPr>
          <a:xfrm>
            <a:off x="457200" y="17600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refer to errors in reasoning as reasoning fallacies. Five common reasoning fallacies to avoid ar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ty general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ca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w 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 hominem </a:t>
            </a:r>
            <a:endParaRPr b="0" lang="en-US" sz="2800" spc="-1" strike="noStrike">
              <a:solidFill>
                <a:srgbClr val="000000"/>
              </a:solidFill>
              <a:latin typeface="Arial"/>
            </a:endParaRPr>
          </a:p>
        </p:txBody>
      </p:sp>
      <p:sp>
        <p:nvSpPr>
          <p:cNvPr id="200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3</a:t>
            </a:r>
            <a:endParaRPr b="0" lang="en-US" sz="1600" spc="-1" strike="noStrike">
              <a:solidFill>
                <a:srgbClr val="000000"/>
              </a:solidFill>
              <a:latin typeface="Arial"/>
            </a:endParaRPr>
          </a:p>
        </p:txBody>
      </p:sp>
      <p:sp>
        <p:nvSpPr>
          <p:cNvPr id="2004"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asoning Fallac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5" name=""/>
          <p:cNvSpPr txBox="1"/>
          <p:nvPr/>
        </p:nvSpPr>
        <p:spPr>
          <a:xfrm>
            <a:off x="457200" y="17748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lines for Evaluating Evidence</a:t>
            </a:r>
            <a:endParaRPr b="0" lang="en-US" sz="32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evidence come from a well-respected source?</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evidence recent, and if not, is it still valid?</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evidence really support the reason?</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is evidence be persuasive for this audience?</a:t>
            </a:r>
            <a:endParaRPr b="0" lang="en-US" sz="2800" spc="-1" strike="noStrike">
              <a:solidFill>
                <a:srgbClr val="000000"/>
              </a:solidFill>
              <a:latin typeface="Arial"/>
            </a:endParaRPr>
          </a:p>
        </p:txBody>
      </p:sp>
      <p:sp>
        <p:nvSpPr>
          <p:cNvPr id="2006"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valuating Evidence</a:t>
            </a:r>
            <a:endParaRPr b="0" lang="en-US" sz="5400" spc="-1" strike="noStrike">
              <a:solidFill>
                <a:srgbClr val="000000"/>
              </a:solidFill>
              <a:latin typeface="Arial"/>
            </a:endParaRPr>
          </a:p>
        </p:txBody>
      </p:sp>
      <p:sp>
        <p:nvSpPr>
          <p:cNvPr id="200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8"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y good charac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y competence and credi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your compet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vidence from respected 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nonverbal delivery to enhance your credi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ocal expression to enhance your credibility.</a:t>
            </a:r>
            <a:endParaRPr b="0" lang="en-US" sz="2800" spc="-1" strike="noStrike">
              <a:solidFill>
                <a:srgbClr val="000000"/>
              </a:solidFill>
              <a:latin typeface="Arial"/>
            </a:endParaRPr>
          </a:p>
        </p:txBody>
      </p:sp>
      <p:sp>
        <p:nvSpPr>
          <p:cNvPr id="200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hetorical Strategy of Ethos</a:t>
            </a:r>
            <a:endParaRPr b="0" lang="en-US" sz="3600" spc="-1" strike="noStrike">
              <a:solidFill>
                <a:srgbClr val="000000"/>
              </a:solidFill>
              <a:latin typeface="Arial"/>
            </a:endParaRPr>
          </a:p>
        </p:txBody>
      </p:sp>
      <p:sp>
        <p:nvSpPr>
          <p:cNvPr id="201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1" name=""/>
          <p:cNvSpPr txBox="1"/>
          <p:nvPr/>
        </p:nvSpPr>
        <p:spPr>
          <a:xfrm>
            <a:off x="457200" y="171612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oke negative emotions.</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r, guilt, shame, anger, and sadness</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oke positive emotions.</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ppiness, joy, pride, relief, hope, and compassion</a:t>
            </a:r>
            <a:endParaRPr b="0" lang="en-US" sz="4000" spc="-1" strike="noStrike">
              <a:solidFill>
                <a:srgbClr val="000000"/>
              </a:solidFill>
              <a:latin typeface="Arial"/>
            </a:endParaRPr>
          </a:p>
        </p:txBody>
      </p:sp>
      <p:sp>
        <p:nvSpPr>
          <p:cNvPr id="201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5</a:t>
            </a:r>
            <a:endParaRPr b="0" lang="en-US" sz="1600" spc="-1" strike="noStrike">
              <a:solidFill>
                <a:srgbClr val="000000"/>
              </a:solidFill>
              <a:latin typeface="Arial"/>
            </a:endParaRPr>
          </a:p>
        </p:txBody>
      </p:sp>
      <p:sp>
        <p:nvSpPr>
          <p:cNvPr id="2013"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hetorical</a:t>
            </a:r>
            <a:br>
              <a:rPr sz="3600"/>
            </a:br>
            <a:r>
              <a:rPr b="1" lang="en-US" sz="3600" spc="-1" strike="noStrike">
                <a:solidFill>
                  <a:srgbClr val="000000"/>
                </a:solidFill>
                <a:latin typeface="Arial"/>
              </a:rPr>
              <a:t>Strategy of Path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4" name=""/>
          <p:cNvSpPr txBox="1"/>
          <p:nvPr/>
        </p:nvSpPr>
        <p:spPr>
          <a:xfrm>
            <a:off x="457200" y="1716120"/>
            <a:ext cx="8229600" cy="4525920"/>
          </a:xfrm>
          <a:prstGeom prst="rect">
            <a:avLst/>
          </a:prstGeom>
          <a:noFill/>
          <a:ln w="0">
            <a:noFill/>
          </a:ln>
        </p:spPr>
        <p:txBody>
          <a:bodyPr anchor="t">
            <a:normAutofit/>
          </a:bodyPr>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l vivid stories.</a:t>
            </a:r>
            <a:endParaRPr b="0" lang="en-US" sz="36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startling statistics.</a:t>
            </a:r>
            <a:endParaRPr b="0" lang="en-US" sz="36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orporate listener relevance links.</a:t>
            </a:r>
            <a:endParaRPr b="0" lang="en-US" sz="36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e striking presentational aids.</a:t>
            </a:r>
            <a:endParaRPr b="0" lang="en-US" sz="36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descriptive and provocative language.</a:t>
            </a:r>
            <a:endParaRPr b="0" lang="en-US" sz="3600" spc="-1" strike="noStrike">
              <a:solidFill>
                <a:srgbClr val="000000"/>
              </a:solidFill>
              <a:latin typeface="Arial"/>
            </a:endParaRPr>
          </a:p>
        </p:txBody>
      </p:sp>
      <p:sp>
        <p:nvSpPr>
          <p:cNvPr id="2015"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a:t>
            </a:r>
            <a:br>
              <a:rPr sz="3600"/>
            </a:br>
            <a:r>
              <a:rPr b="1" lang="en-US" sz="3600" spc="-1" strike="noStrike">
                <a:solidFill>
                  <a:srgbClr val="000000"/>
                </a:solidFill>
                <a:latin typeface="Arial"/>
              </a:rPr>
              <a:t>Appealing to Emotions</a:t>
            </a:r>
            <a:endParaRPr b="0" lang="en-US" sz="3600" spc="-1" strike="noStrike">
              <a:solidFill>
                <a:srgbClr val="000000"/>
              </a:solidFill>
              <a:latin typeface="Arial"/>
            </a:endParaRPr>
          </a:p>
        </p:txBody>
      </p:sp>
      <p:sp>
        <p:nvSpPr>
          <p:cNvPr id="201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7" name=""/>
          <p:cNvSpPr txBox="1"/>
          <p:nvPr/>
        </p:nvSpPr>
        <p:spPr>
          <a:xfrm>
            <a:off x="457200" y="1760040"/>
            <a:ext cx="8229600" cy="4526280"/>
          </a:xfrm>
          <a:prstGeom prst="rect">
            <a:avLst/>
          </a:prstGeom>
          <a:noFill/>
          <a:ln w="0">
            <a:noFill/>
          </a:ln>
        </p:spPr>
        <p:txBody>
          <a:bodyPr anchor="t">
            <a:normAutofit/>
          </a:bodyPr>
          <a:p>
            <a:pPr marL="743040" indent="-74304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nonverbal elements of delivery to reinforce your emotional appeal.</a:t>
            </a:r>
            <a:endParaRPr b="0" lang="en-US" sz="3600" spc="-1" strike="noStrike">
              <a:solidFill>
                <a:srgbClr val="000000"/>
              </a:solidFill>
              <a:latin typeface="Arial"/>
            </a:endParaRPr>
          </a:p>
          <a:p>
            <a:pPr marL="743040" indent="-74304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gestures and facial expressions to highlight the emotions you are conveying.</a:t>
            </a:r>
            <a:endParaRPr b="0" lang="en-US" sz="3600" spc="-1" strike="noStrike">
              <a:solidFill>
                <a:srgbClr val="000000"/>
              </a:solidFill>
              <a:latin typeface="Arial"/>
            </a:endParaRPr>
          </a:p>
        </p:txBody>
      </p:sp>
      <p:sp>
        <p:nvSpPr>
          <p:cNvPr id="20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5</a:t>
            </a:r>
            <a:endParaRPr b="0" lang="en-US" sz="1600" spc="-1" strike="noStrike">
              <a:solidFill>
                <a:srgbClr val="000000"/>
              </a:solidFill>
              <a:latin typeface="Arial"/>
            </a:endParaRPr>
          </a:p>
        </p:txBody>
      </p:sp>
      <p:sp>
        <p:nvSpPr>
          <p:cNvPr id="2019"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a:t>
            </a:r>
            <a:br>
              <a:rPr sz="3600"/>
            </a:br>
            <a:r>
              <a:rPr b="1" lang="en-US" sz="3600" spc="-1" strike="noStrike">
                <a:solidFill>
                  <a:srgbClr val="000000"/>
                </a:solidFill>
                <a:latin typeface="Arial"/>
              </a:rPr>
              <a:t>Appealing to Emo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973" name="PlaceHolder 2"/>
          <p:cNvSpPr>
            <a:spLocks noGrp="1"/>
          </p:cNvSpPr>
          <p:nvPr>
            <p:ph type="subTitle"/>
          </p:nvPr>
        </p:nvSpPr>
        <p:spPr>
          <a:xfrm>
            <a:off x="595440" y="1668600"/>
            <a:ext cx="7967520" cy="4906800"/>
          </a:xfrm>
          <a:prstGeom prst="rect">
            <a:avLst/>
          </a:prstGeom>
          <a:noFill/>
          <a:ln w="0">
            <a:noFill/>
          </a:ln>
        </p:spPr>
        <p:txBody>
          <a:bodyPr anchor="t">
            <a:noAutofit/>
          </a:bodyPr>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1</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Describe the nature of persuasion.</a:t>
            </a:r>
            <a:endParaRPr b="0" lang="en-US" sz="2800" spc="-1" strike="noStrike">
              <a:solidFill>
                <a:srgbClr val="000000"/>
              </a:solidFill>
              <a:latin typeface="Arial"/>
            </a:endParaRPr>
          </a:p>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2</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Explain how people process persuasive messages.</a:t>
            </a:r>
            <a:endParaRPr b="0" lang="en-US" sz="2800" spc="-1" strike="noStrike">
              <a:solidFill>
                <a:srgbClr val="000000"/>
              </a:solidFill>
              <a:latin typeface="Arial"/>
            </a:endParaRPr>
          </a:p>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3</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Identify and apply logos in persuasive messages.</a:t>
            </a:r>
            <a:endParaRPr b="0" lang="en-US" sz="2800" spc="-1" strike="noStrike">
              <a:solidFill>
                <a:srgbClr val="000000"/>
              </a:solidFill>
              <a:latin typeface="Arial"/>
            </a:endParaRPr>
          </a:p>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4</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Identify and apply ethos in persuasive messages.</a:t>
            </a:r>
            <a:endParaRPr b="0" lang="en-US" sz="2800" spc="-1" strike="noStrike">
              <a:solidFill>
                <a:srgbClr val="000000"/>
              </a:solidFill>
              <a:latin typeface="Arial"/>
            </a:endParaRPr>
          </a:p>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5</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Identify and apply pathos in persuasive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ersuasion</a:t>
            </a:r>
            <a:endParaRPr b="0" lang="en-US" sz="6600" spc="-1" strike="noStrike">
              <a:solidFill>
                <a:srgbClr val="000000"/>
              </a:solidFill>
              <a:latin typeface="Arial"/>
            </a:endParaRPr>
          </a:p>
        </p:txBody>
      </p:sp>
      <p:sp>
        <p:nvSpPr>
          <p:cNvPr id="1975" name="PlaceHolder 2"/>
          <p:cNvSpPr>
            <a:spLocks noGrp="1"/>
          </p:cNvSpPr>
          <p:nvPr>
            <p:ph type="subTitle"/>
          </p:nvPr>
        </p:nvSpPr>
        <p:spPr>
          <a:xfrm>
            <a:off x="174600" y="21474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process of influencing people’s attitudes, beliefs, values, or behavio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ersuasive speaking</a:t>
            </a:r>
            <a:endParaRPr b="0" lang="en-US" sz="6600" spc="-1" strike="noStrike">
              <a:solidFill>
                <a:srgbClr val="000000"/>
              </a:solidFill>
              <a:latin typeface="Arial"/>
            </a:endParaRPr>
          </a:p>
        </p:txBody>
      </p:sp>
      <p:sp>
        <p:nvSpPr>
          <p:cNvPr id="1977" name="PlaceHolder 2"/>
          <p:cNvSpPr>
            <a:spLocks noGrp="1"/>
          </p:cNvSpPr>
          <p:nvPr>
            <p:ph type="subTitle"/>
          </p:nvPr>
        </p:nvSpPr>
        <p:spPr>
          <a:xfrm>
            <a:off x="174600" y="2147400"/>
            <a:ext cx="8794800" cy="37450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process of influencing people’s attitudes, beliefs, values, or behaviors in a public speech</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8" name=""/>
          <p:cNvSpPr txBox="1"/>
          <p:nvPr/>
        </p:nvSpPr>
        <p:spPr>
          <a:xfrm>
            <a:off x="457200" y="17748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as the goal of an informative message is to teach, the goal of a persuasive message is to lead.</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reeks and Romans described </a:t>
            </a:r>
            <a:r>
              <a:rPr b="0" i="1" lang="en-US" sz="3600" spc="-1" strike="noStrike">
                <a:solidFill>
                  <a:srgbClr val="000000"/>
                </a:solidFill>
                <a:latin typeface="Arial"/>
              </a:rPr>
              <a:t>persuasion</a:t>
            </a:r>
            <a:r>
              <a:rPr b="0" lang="en-US" sz="3600" spc="-1" strike="noStrike">
                <a:solidFill>
                  <a:srgbClr val="000000"/>
                </a:solidFill>
                <a:latin typeface="Arial"/>
              </a:rPr>
              <a:t> as logical and well-supported arguments developed through rhetorical appeals to logos, ethos, and pathos.</a:t>
            </a:r>
            <a:endParaRPr b="0" lang="en-US" sz="3600" spc="-1" strike="noStrike">
              <a:solidFill>
                <a:srgbClr val="000000"/>
              </a:solidFill>
              <a:latin typeface="Arial"/>
            </a:endParaRPr>
          </a:p>
        </p:txBody>
      </p:sp>
      <p:sp>
        <p:nvSpPr>
          <p:cNvPr id="197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Nature of Persuasion</a:t>
            </a:r>
            <a:endParaRPr b="0" lang="en-US" sz="4400" spc="-1" strike="noStrike">
              <a:solidFill>
                <a:srgbClr val="000000"/>
              </a:solidFill>
              <a:latin typeface="Arial"/>
            </a:endParaRPr>
          </a:p>
        </p:txBody>
      </p:sp>
      <p:sp>
        <p:nvSpPr>
          <p:cNvPr id="198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1" name=""/>
          <p:cNvSpPr txBox="1"/>
          <p:nvPr/>
        </p:nvSpPr>
        <p:spPr>
          <a:xfrm>
            <a:off x="457200" y="1716120"/>
            <a:ext cx="8229600" cy="4525920"/>
          </a:xfrm>
          <a:prstGeom prst="rect">
            <a:avLst/>
          </a:prstGeom>
          <a:noFill/>
          <a:ln w="0">
            <a:noFill/>
          </a:ln>
        </p:spPr>
        <p:txBody>
          <a:bodyPr anchor="t">
            <a:normAutofit fontScale="96000"/>
          </a:bodyPr>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a:t>
            </a:r>
            <a:r>
              <a:rPr b="0" i="1" lang="en-US" sz="3600" spc="-1" strike="noStrike">
                <a:solidFill>
                  <a:srgbClr val="000000"/>
                </a:solidFill>
                <a:latin typeface="Arial"/>
              </a:rPr>
              <a:t>logos</a:t>
            </a:r>
            <a:r>
              <a:rPr b="0" lang="en-US" sz="3600" spc="-1" strike="noStrike">
                <a:solidFill>
                  <a:srgbClr val="000000"/>
                </a:solidFill>
                <a:latin typeface="Arial"/>
              </a:rPr>
              <a:t>, you construct logical arguments that support your point of view.</a:t>
            </a:r>
            <a:endParaRPr b="0" lang="en-US" sz="3600" spc="-1" strike="noStrike">
              <a:solidFill>
                <a:srgbClr val="000000"/>
              </a:solidFill>
              <a:latin typeface="Arial"/>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a:t>
            </a:r>
            <a:r>
              <a:rPr b="0" i="1" lang="en-US" sz="3600" spc="-1" strike="noStrike">
                <a:solidFill>
                  <a:srgbClr val="000000"/>
                </a:solidFill>
                <a:latin typeface="Arial"/>
              </a:rPr>
              <a:t>ethos</a:t>
            </a:r>
            <a:r>
              <a:rPr b="0" lang="en-US" sz="3600" spc="-1" strike="noStrike">
                <a:solidFill>
                  <a:srgbClr val="000000"/>
                </a:solidFill>
                <a:latin typeface="Arial"/>
              </a:rPr>
              <a:t>, you argue that your competence, credibility, and character should persuade others.</a:t>
            </a:r>
            <a:endParaRPr b="0" lang="en-US" sz="3600" spc="-1" strike="noStrike">
              <a:solidFill>
                <a:srgbClr val="000000"/>
              </a:solidFill>
              <a:latin typeface="Arial"/>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a:t>
            </a:r>
            <a:r>
              <a:rPr b="0" i="1" lang="en-US" sz="3600" spc="-1" strike="noStrike">
                <a:solidFill>
                  <a:srgbClr val="000000"/>
                </a:solidFill>
                <a:latin typeface="Arial"/>
              </a:rPr>
              <a:t>pathos</a:t>
            </a:r>
            <a:r>
              <a:rPr b="0" lang="en-US" sz="3600" spc="-1" strike="noStrike">
                <a:solidFill>
                  <a:srgbClr val="000000"/>
                </a:solidFill>
                <a:latin typeface="Arial"/>
              </a:rPr>
              <a:t>, you appeal to listeners’ emotions.</a:t>
            </a:r>
            <a:endParaRPr b="0" lang="en-US" sz="3600" spc="-1" strike="noStrike">
              <a:solidFill>
                <a:srgbClr val="000000"/>
              </a:solidFill>
              <a:latin typeface="Arial"/>
            </a:endParaRPr>
          </a:p>
        </p:txBody>
      </p:sp>
      <p:sp>
        <p:nvSpPr>
          <p:cNvPr id="198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1</a:t>
            </a:r>
            <a:endParaRPr b="0" lang="en-US" sz="1600" spc="-1" strike="noStrike">
              <a:solidFill>
                <a:srgbClr val="000000"/>
              </a:solidFill>
              <a:latin typeface="Arial"/>
            </a:endParaRPr>
          </a:p>
        </p:txBody>
      </p:sp>
      <p:sp>
        <p:nvSpPr>
          <p:cNvPr id="1983"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gos, Ethos, and Path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4" name=""/>
          <p:cNvSpPr txBox="1"/>
          <p:nvPr/>
        </p:nvSpPr>
        <p:spPr>
          <a:xfrm>
            <a:off x="457200" y="17161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the ELM, people process information via the “central route” or the “peripheral rou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ople using the central route are persuaded through </a:t>
            </a:r>
            <a:r>
              <a:rPr b="0" i="1" lang="en-US" sz="3600" spc="-1" strike="noStrike">
                <a:solidFill>
                  <a:srgbClr val="000000"/>
                </a:solidFill>
                <a:latin typeface="Arial"/>
              </a:rPr>
              <a:t>logo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ople using the peripheral route are persuaded through </a:t>
            </a:r>
            <a:r>
              <a:rPr b="0" i="1" lang="en-US" sz="3600" spc="-1" strike="noStrike">
                <a:solidFill>
                  <a:srgbClr val="000000"/>
                </a:solidFill>
                <a:latin typeface="Arial"/>
              </a:rPr>
              <a:t>ethos</a:t>
            </a:r>
            <a:r>
              <a:rPr b="0" lang="en-US" sz="3600" spc="-1" strike="noStrike">
                <a:solidFill>
                  <a:srgbClr val="000000"/>
                </a:solidFill>
                <a:latin typeface="Arial"/>
              </a:rPr>
              <a:t> and </a:t>
            </a:r>
            <a:r>
              <a:rPr b="0" i="1" lang="en-US" sz="3600" spc="-1" strike="noStrike">
                <a:solidFill>
                  <a:srgbClr val="000000"/>
                </a:solidFill>
                <a:latin typeface="Arial"/>
              </a:rPr>
              <a:t>pathos</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985"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laboration </a:t>
            </a:r>
            <a:br>
              <a:rPr sz="3600"/>
            </a:br>
            <a:r>
              <a:rPr b="1" lang="en-US" sz="3600" spc="-1" strike="noStrike">
                <a:solidFill>
                  <a:srgbClr val="000000"/>
                </a:solidFill>
                <a:latin typeface="Arial"/>
              </a:rPr>
              <a:t>Likelihood Model (ELM)</a:t>
            </a:r>
            <a:endParaRPr b="0" lang="en-US" sz="3600" spc="-1" strike="noStrike">
              <a:solidFill>
                <a:srgbClr val="000000"/>
              </a:solidFill>
              <a:latin typeface="Arial"/>
            </a:endParaRPr>
          </a:p>
        </p:txBody>
      </p:sp>
      <p:sp>
        <p:nvSpPr>
          <p:cNvPr id="198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7" name=""/>
          <p:cNvSpPr txBox="1"/>
          <p:nvPr/>
        </p:nvSpPr>
        <p:spPr>
          <a:xfrm>
            <a:off x="457200" y="17600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ing argument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 support, and warrant</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types of reasoning</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tive and deductive</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and tests of argument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 example, analogy, and causation</a:t>
            </a:r>
            <a:endParaRPr b="0" lang="en-US" sz="3200" spc="-1" strike="noStrike">
              <a:solidFill>
                <a:srgbClr val="000000"/>
              </a:solidFill>
              <a:latin typeface="Arial"/>
            </a:endParaRPr>
          </a:p>
        </p:txBody>
      </p:sp>
      <p:sp>
        <p:nvSpPr>
          <p:cNvPr id="198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13-3</a:t>
            </a:r>
            <a:endParaRPr b="0" lang="en-US" sz="1600" spc="-1" strike="noStrike">
              <a:solidFill>
                <a:srgbClr val="000000"/>
              </a:solidFill>
              <a:latin typeface="Arial"/>
            </a:endParaRPr>
          </a:p>
        </p:txBody>
      </p:sp>
      <p:sp>
        <p:nvSpPr>
          <p:cNvPr id="1989"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hetorical</a:t>
            </a:r>
            <a:br>
              <a:rPr sz="3600"/>
            </a:br>
            <a:r>
              <a:rPr b="1" lang="en-US" sz="3600" spc="-1" strike="noStrike">
                <a:solidFill>
                  <a:srgbClr val="000000"/>
                </a:solidFill>
                <a:latin typeface="Arial"/>
              </a:rPr>
              <a:t>Strategy of Log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0"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i="1" lang="en-US" sz="3200" spc="-1" strike="noStrike">
                <a:solidFill>
                  <a:srgbClr val="000000"/>
                </a:solidFill>
                <a:latin typeface="Arial"/>
              </a:rPr>
              <a:t>argue from sign</a:t>
            </a:r>
            <a:r>
              <a:rPr b="0" lang="en-US" sz="3200" spc="-1" strike="noStrike">
                <a:solidFill>
                  <a:srgbClr val="000000"/>
                </a:solidFill>
                <a:latin typeface="Arial"/>
              </a:rPr>
              <a:t> when you support a claim by providing evidence that the events that signal the claim have occur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signs always or usually indicate the conclusion draw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nough signs pres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tradictory signs present?</a:t>
            </a:r>
            <a:endParaRPr b="0" lang="en-US" sz="2800" spc="-1" strike="noStrike">
              <a:solidFill>
                <a:srgbClr val="000000"/>
              </a:solidFill>
              <a:latin typeface="Arial"/>
            </a:endParaRPr>
          </a:p>
        </p:txBody>
      </p:sp>
      <p:sp>
        <p:nvSpPr>
          <p:cNvPr id="1991"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rgument from Sign</a:t>
            </a:r>
            <a:endParaRPr b="0" lang="en-US" sz="5400" spc="-1" strike="noStrike">
              <a:solidFill>
                <a:srgbClr val="000000"/>
              </a:solidFill>
              <a:latin typeface="Arial"/>
            </a:endParaRPr>
          </a:p>
        </p:txBody>
      </p:sp>
      <p:sp>
        <p:nvSpPr>
          <p:cNvPr id="199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6-29T01:36:57Z</cp:lastPrinted>
  <dcterms:modified xsi:type="dcterms:W3CDTF">2016-06-29T01:44:04Z</dcterms:modified>
  <cp:revision>352</cp:revision>
  <dc:subject/>
  <dc:title>Chapter One</dc:title>
</cp:coreProperties>
</file>